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65D-ECF3-4E16-9BCC-3E83AECA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DE8-6A60-4DFB-BF72-979B25D3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2D439-D37F-4E1E-B5A1-BA5B248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A595B-2BE3-422D-AD47-35EAF93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7E16B-D100-4A7F-A67E-298E7149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CE45-1862-4141-9F09-F164927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A6A14-78E6-448B-8C14-13D59F25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8EB9F-3B4D-4FDE-8F40-CA2E1F9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7253E-0F16-42DA-A484-1C33C908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5CFC3-6B39-4A92-95D1-90A73D5A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EC371-A11F-4966-8DEB-99333C2C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D4C91-1752-44DE-8520-69DB6B1B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7A2-6192-4A30-B525-CFDBA5DB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52F8D-D364-4027-95DC-B87289A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96DD4-40B5-4603-8123-D15151A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D6654-3F55-4BFA-B348-65284F2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DDB9F-4FDD-4441-8D87-34DEAF23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4BFBA-0964-4547-883A-5B3F4CC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C15C9-FF57-4E53-BA68-2EB1685F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64F1B-1AE9-47D6-88EB-6CE71C2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FC6B4-36D6-4C84-81B1-C881A91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30AB6-C185-4B5A-9573-DCDAB186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203BC-4958-4483-8524-855C9924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E5A-30D7-4F9B-8328-3E296419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C26F9-B204-40AF-BD31-A96CC9CA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489F8-E216-40A2-A288-0674CFCF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F3B0-666D-4090-9248-AFFB11BC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F991E-AD9F-432B-AFFC-2B830C5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B9460-45D5-44BB-8C49-CE12BAB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2726E-011D-4D82-9EDB-600777E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BDB5F-8CFC-4963-987B-C1D9E0AD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6DDDD-26B8-43A0-9440-ADA3B49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A9C7E-C0D8-4B8E-AA66-BA50B12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B3DCE-419A-4B80-8980-589F963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01E2-48D7-4E7E-B468-E235B656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21864-5404-4CB2-9734-9189E1A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7AB50-4630-4A91-9A04-2B09890B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3E0C8-D7B8-4460-9DF1-06AB1B68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6D10F-4388-4639-9524-323D5002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9955B-C10B-4C36-8E35-B55398A9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112CF-A515-4810-A21C-A241B014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40C27-8721-4E6E-B99D-057DF099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9DB53-B637-4A12-B084-0BDFC70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FFF3F-C261-4358-9D75-CEA508E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8402C-9A98-4AE2-BB68-D744775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86F6-4811-4E40-B652-F5E177E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06BB0-9860-4A97-A412-8948E9E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294F8-1466-480E-90DB-6246615E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6BFC7-165F-44B7-BC3E-DABBEB4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ECAAB-043F-4E77-B2CD-28B7324F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9ABCE-FF8E-47BC-812F-1C9F6215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B96B5-C2AA-4E39-9C0E-B7CAF885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E4A14-E162-4A27-A87B-58E5F6A6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BE4CC-5ADD-4F48-BAB3-BE83692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8E2C0-81C6-40AC-99A5-B3A8321F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220B5-D4CB-45CE-A015-AAA19DC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D378-E999-4BE4-8CA4-FC4626D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19944-4591-4C96-A209-16682809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BEFBC-8572-4CF7-906F-42CD931A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CEF95-5091-4AE8-A506-3CC4BB3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04CD0-4E42-4B5F-85A0-DE6424B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FC65D-CA8D-4114-91FE-45455679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45853-BC1E-4C33-8E48-B5A4C549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A70A9-8ED6-4A15-8BB2-EB0439C7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1FF3-F6F8-4200-B798-BCA9247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C07-E382-4067-9CA5-9B69428C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0122-A007-4A86-9C28-B328309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6007-DB71-41EF-895C-C7579C33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EDE-6A54-4DDE-85A5-E5547122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16F-6CDE-4C26-8190-7B48455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503A-80E8-48DE-AE71-57429BE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12AF-8670-4D03-9BBC-23FA609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08FA-1625-4128-B617-1C5312DF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E852-BF9E-4A45-8056-25D97281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30D9-B333-4CD0-B152-14EF9F4F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B874-C233-422E-B8FB-24E84C4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1DDB0-4F29-4347-9F51-E5C3AD21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E461-AD61-4552-B6A5-0466976A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E113-6CCE-44FA-A332-2369312E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270-F551-42B8-B2D0-19BE060C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2DC6-C023-47CE-83D0-F814BE50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84D6-11E4-454D-82A5-2AB351BF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EBB5-762F-4939-A59E-6346F24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6A29-7CE8-4309-9236-46B1F8F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C24D-B289-4696-9222-AC6094C9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FC82-53CC-4CA3-B51A-D610E037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45CA-3C98-4953-9B87-C04C9A52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C80C-18FE-4CAA-BFAC-106BE190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35D9-8213-403B-B606-2E23A76F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01E4-132E-4E8E-8872-48D5D9E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0A3-3D6D-4D35-9AA9-F8DC11C2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7A9B-D466-46FC-8311-7AC49AB7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1F84-CE80-4F32-BC59-83938E00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A849-A5E9-4F16-8571-2CE78404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7DB1-FE6A-40CD-88C0-0B834ED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51AB-BF3B-4AA9-986D-023A248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5AB3-98FA-4094-9A29-E4BD7554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189A-DC66-4E12-9186-D1DAA704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3346-F9D2-4508-9FF6-0F291A9D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B9EC-6CE4-4304-9DB3-C99C0EB5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66CD-9A6C-41BD-B6F6-88FC39C4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AE8-9384-4E55-AB61-4FB8C32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5691-A09F-4298-83E5-9B0E22D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1F59-7D7B-4CBF-85B7-60179BE6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26DC-C3D4-4A4A-903B-34ACA791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6AC6-AF6E-44AF-8AED-7F08002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58678-43FD-4E71-A5D7-F1948980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1D74-DF13-4081-819A-645D38E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AE83-E91F-4BDB-A693-85810DF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0103-5879-4F0D-B6E1-88971E3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DBB6-4EC5-466D-8948-5AE5F1B2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3FF6-DE3A-45CC-8269-4A38D7BE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F39-D5C3-4C73-B2EC-327B49D0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31832-82E1-4E77-996C-81E336B1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35F58-D0BC-4B0E-83FA-B379545D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6617-CBFB-4E27-B2E1-12808D22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A7C65-3F06-43C0-996A-379D3D85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886D0-C7E3-47AE-8B50-C2549945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76693-F58F-460A-8C5A-F25BDCCF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0AE8-034C-41CC-B4E6-ACC5110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B501-CCCE-4A24-B9EA-E438363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1800-00E4-413D-8359-C5155566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6701-B89B-4B58-9B2C-E408742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B56-7166-450E-B275-04ADBAF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A2EF-A9C4-45CC-8F66-DC1DBD0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E63D-D597-4837-9048-932BC56C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44B4E-8507-405C-AFCF-FFA3FCDE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C202-E267-4E04-94F8-B44AE6DC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A7D83-B353-4E57-8753-BCB3FE09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57CFC-1C78-467C-9974-3A86AEC4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DEDCD-15A5-450F-9F4B-118B0F26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DAA9-C990-47FD-9B07-E05FCA7F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91C9-11FE-497F-8454-7038CB8F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9C0E7-CF7D-42CD-8AF4-062F886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CA2-73E4-4B94-9038-BFAB598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909AA-771A-4E4A-90A4-852A34F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B08D-461B-4930-8676-5BB9005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6754F-09A1-41C1-8385-41C2EAB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23FFA-36DD-436B-8D43-37E24F6D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1A06-4265-4862-A9A4-D4757653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262D-5B85-49B0-BD62-5DC9D6E7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86D4-AE2D-4174-BB7F-3195D823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8580C-3FDB-485F-843E-DC55B58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99975-ABE1-400A-9B28-6C194769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27B8-684B-4EA1-B8BE-DA7015DF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631-CF39-4C7F-AAB2-32B75AF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788A-4FC1-4505-8874-BFBE01E6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B913C-7B54-47D4-B649-481C685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936A-8303-443F-A985-8D7F14B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6037-64F6-4B48-83D1-44A88F5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67BF6-83A1-4BCE-86A4-B7C5D30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9C79A-79A5-4745-8808-2F34602C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782C3-18AD-4CE8-8E6F-680899EC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D9A6E-4FE0-4376-95C7-61F7F6BA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D38E-45C9-4DE6-A664-D20920DF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71A72-5000-4304-AFBD-48F2ED97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F4F8-7734-4203-8530-8776F10B5C4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3B91-4BD3-4400-BD71-D551822355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32EA-6EA1-4EFD-BF25-591E725663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42AA-C1D1-43DA-B99F-FF1152A38C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108C-16C4-4A94-8FFB-A2D9DF1D0B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1BA-4242-4D74-8741-D5F64CAE84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2277-8337-4C3D-8AE3-6A75DA35D4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2629-7296-4E92-880A-DEDFE8BDCC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905E-08F6-446D-9FF6-0D31827168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8F0-E811-41DC-A8BD-7FF7B46DD4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111D-0406-40BE-9A12-3A7823F09C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5EF9-B6BF-4903-A64A-0348F89DDF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155-C878-48F5-833C-5CF8679756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Preferred Customer</cp:lastModifiedBy>
  <dcterms:modified xsi:type="dcterms:W3CDTF">2012-04-17T19:08:04Z</dcterms:modified>
  <cp:revision>78</cp:revision>
  <dc:subject/>
  <dc:title>Presentación de PowerPoint</dc:title>
</cp:coreProperties>
</file>